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C98F-6949-4723-A17D-0D964D14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6F5F-CE90-4266-9DC4-C146B931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6CDD-CEF1-4683-B63B-D2ECDA73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4F33-7710-4FE4-8087-D510ADD4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E3E9-88AE-465E-AB89-3A9AE876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7768-91DE-4E4C-8746-AC5F6604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6A7D-2AFB-4AA4-A1C9-38283998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3F1D-42E8-462A-80F7-E7207033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2BFD-A58D-4141-B211-1BC29F75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4F7A-1396-4CD2-B56D-AEAAE7AE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F492-4214-4F1F-B8CA-8D498298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0A95-30BC-4B60-804A-3F8AB8B9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960B-FB10-4042-940A-4E1B8116B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ow Char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82880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182880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3276720"/>
            <a:ext cx="1524240" cy="14475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3429000"/>
            <a:ext cx="14479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62920" y="3429000"/>
            <a:ext cx="144756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og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5334120"/>
            <a:ext cx="14479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2362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2940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7480" y="3581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5360" y="48006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772400" y="4723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22200" y="121932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sure to enter your own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5:48:27Z</dcterms:created>
  <dc:creator>schwalbe</dc:creator>
  <dc:description/>
  <dc:language>en-US</dc:language>
  <cp:lastModifiedBy>schwalbe</cp:lastModifiedBy>
  <dcterms:modified xsi:type="dcterms:W3CDTF">2005-10-14T21:49:41Z</dcterms:modified>
  <cp:revision>104</cp:revision>
  <dc:subject/>
  <dc:title>Slide 1</dc:title>
</cp:coreProperties>
</file>